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354-8168-4A51-96B0-4DB8113F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07B-9B06-45B8-A77A-C5B72542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A96-7F4A-4662-9BA3-26F7D61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019-DA10-4846-8CE0-3A1EF017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A057-0769-43CD-B69E-CD570D25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FB9-384E-4F39-8431-1245DD4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7C0-9476-4284-BB8C-769EFB4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5047-0E2D-4121-8E23-7938F1F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B2F-CDD2-406E-B410-25F5E6BB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ECA-D9D1-4511-BAAE-49CCE951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05F-C859-4707-99F5-1FCB889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EB2-4FD9-4885-8FF9-BA1BE2EB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1859-1C30-4114-883D-CAC58457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CC4-55D5-4769-8555-4B0E94C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8372-BA1C-47AA-B31A-63588F39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BE4-C43C-4716-AF90-F578BC8E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2646-426C-49B5-88D8-66E815EC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A2ED-DDC5-4471-8715-97437FA5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8E07-A3B8-4AFF-A139-F831062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C746-83F6-48A6-8611-7B0C29CA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B93B-3A74-4629-8771-7F95C45A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2C2F-F6A3-4A67-8D22-CB2C4243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6A4-E450-42DA-B74C-A687F36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B1EA-A4F6-4348-8A5D-478FEFE2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5932-0A3D-4CB7-A70F-124AD3E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68CD-F2C5-41E5-8C20-7250852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3F53-1180-4BDE-9166-471A86B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3D1B-B125-447F-9A1D-44B9F9F5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9746-3D9D-4C4C-AD38-783B55AC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D4C1-57EC-4EA8-9B2F-1453ED36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58AF-DA45-44B7-8D16-D7E381B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8867-706D-4BD2-BD64-5DAF4085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C85A-14E9-4491-8E8E-BD096894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D7D-1D45-4545-A857-0EBB8EA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EE11-F5B3-4980-911F-2A14F91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AC6B-0EE0-4200-AB47-7D1B2BE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B8F3-9278-46B0-B8B9-AEB4772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3639-DA5A-4290-B390-3513E9B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6709-E8CC-4D5B-B4DF-2493B33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150E-BC17-4B51-8B1A-3F56417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7A46-24AF-430D-92E4-A133EFB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87AA-A23B-44CF-9A27-7FAFFE74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458EF-BF43-432B-AE84-4653524D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864DA-A4F1-42AA-9270-FC4358C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D26-4CA8-4BA6-B6AE-59DF68D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1542-AF85-453E-A7C3-26B422F7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0DE4-8C81-4326-B9DA-7142D4A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2557-493E-42B9-8DA9-D0D65DA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EA0F-C23E-4D2D-A2EE-4444932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A418-C165-4DAD-8D83-66F58159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0BB6-1E10-4FD6-AF41-916C83B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C48D-AA75-43BF-A0BF-00E1EBC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FDED-38A4-4952-9CAE-B5A8EC8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C63D-040C-4E9A-BD0D-6A8B2BA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7B43-71A7-4923-9E68-09450EB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FF9-8BAF-4C8C-AC06-283A6AF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D215-78C8-4D29-9750-C4D19AF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E43B-E5A2-42A7-ACAF-5B50333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7838-30CF-4253-8A05-08865328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C570-5B12-482A-9F08-7B758B1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78E5-0E71-4820-9EB8-6893945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6B8F-2EBF-4AFE-B4E8-32561EDF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2B16-B51B-4423-A19D-9633E6FA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E29D-C29A-4094-8813-6880D2B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0911-656C-466F-9833-B4EBA9A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43D6-0B14-4ADB-B64D-07E93D7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198-C399-4D19-98DD-E0EB6FA6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1CB8-5697-4C6C-BEC3-6827DA1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F3FD-1C74-4820-AA28-D6B29CF9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3F8C-457D-474D-9EBB-23665DA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2664F-B1DD-40EF-8A03-321227EC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096C-9EB3-47CE-AA07-0983D3D3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AE20-4967-4C9A-B6C0-1554A08A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7970-4F6C-4AA2-BE4D-F378019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9ADA3-A2A4-49AE-8D4B-A31018B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77C6-F1B0-47E6-A023-3145B2A9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4CD12-6377-4F16-9B9B-6083B9C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8E9-2804-4059-AEC8-23B01EB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801F-BD6F-4D6B-A79F-B440829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2957-129E-4B25-9FAD-0DCFC58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73422-EFFC-4025-824C-FAA3BD32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E6593-64B2-4F9B-B25A-C85100A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7A83-B49B-4308-A8EB-FEBAA34D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4E6-7C2E-4352-A630-794986F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1478C-F7F0-4485-9A41-2E68502E750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2CB6D-1686-4459-83CE-CA6FC491E71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DD62-D9FC-4E0A-808D-2D7033A1A8C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80EE0-929E-44A7-A3FC-FFAD62691A1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BE6CD-C454-4B12-B319-7A2496E40DB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003A7-F8AE-4016-971A-9A1D8EAC110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4E523-408B-4628-9EC7-E569E4521BB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1ECBE-2E95-4F37-8DD0-6E6633DEBC3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20E26-3341-4D92-A684-4F1FF26EA9F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62F8B-9E01-4CB9-83FC-9BC6B3F2D473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B1FC3-9934-4605-9883-036837D06AC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E41F2-ACA1-4127-9CD9-422CB951945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37C9E-2977-4E81-878B-5F04B56BD28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3E90F-5593-4252-83D8-0CF90E02558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pecial Issue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4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CHING CHEN HU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SULTANAH BAHIYAH, KEDA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MS. MANJULAA DEVI SUBRAMANIAM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KUALA LUMPUR, KUALA LUMPUR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EF816-01CE-4379-A405-91B90780CDF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Foet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6570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associated with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hypertension (OR, 3.42;95% CI 1.87 to 6.2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ystemic disease (OR, 3.13; 95% CI 1.51 to 6.50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oteinuria (OR, 3.69; 95% CI 1.63 to 8.36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more frequent in patients with CKD stage 2 (31.2%) and stage 3/4 (75%) renal impairment compared with stage 1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IUGR rates were 15%, 38.5%, or 42.9% in CKD stages 1, 2, and 3/4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ive infants outcomes born to women with mild renal injury (serum creatinine &lt;123 mol/L) were similar to the pregnant population as a whol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9. Wang F, et al. Kidney Blood Press Res. 2011;34(1):34-4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0C56F-0D61-4FB6-910D-72A15A0B4FF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swer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: Individualis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cy may be considered in women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, 57, 58, 59, 60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ild renal impairment (SCr &lt;124 µmol/L) and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lood pressure well controlle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…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0. Piccoli GB, et al. Clin J Am Soc Nephrol. 2010;5(5):844-5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0C0A1-C637-4897-8FE9-D4B34D82AFA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58664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planned!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aking into consideration the clinical status of the woma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th pre-conception review of medic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arly referral for combined specialist c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Ei and ARB should be avoided in pregnancy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 to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ppendix 4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on United States Food and Drug Administration (FDA) Pharmaceutical Pregnancy Categori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1DEA7-C6A4-42CF-B2B2-16331AF97EB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e-Pregnancy Care (PPC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853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set of healthcare and interventions given to women in their reproductive age before conception occu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 of pre-pregnancy care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for medical conditions and medical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and optimisation of medical conditions and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nd supplement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plann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6. Pre Pregnancy Care (PPC) (Available at www.myhealth.gov.my/en/prepregnancy-care-ppc/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C01AF-5266-4628-8089-3C0EF433308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pregnanc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F0F46-8910-4A1E-A22D-03DCE8F99D8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539640" y="1887480"/>
            <a:ext cx="81295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to do if a CKD patient is already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880" y="2069640"/>
            <a:ext cx="75438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sciplinary care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monitoring of progression of pregnancy and, maternal and foetal complication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mmunication between nephrologist and obstetrici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A2C28-7B92-4D5E-AE76-2A446A0D961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1880" y="165384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fter the age of 40 years, GFR progressively declines at an average rate of 8 ml/min/1.73 m² per decad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Australian Diabetes, Obesity and Lifestyle (AusDiab) study showed that more than one-third of people over the age of 65 years have an eGFR &lt;60 ml/min/1.73 m²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cross sectional survey done in UK between 2003 - 2010 showed that around half of the population &gt;70 years of age now have an eGFR &lt;60 ml/min/1.73 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de variability among individuals in the age-related fall in GF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a. Chadban SJ, et al. J Am Soc Nephrol. 2003 Jul;14(7 Suppl 2):S131-8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b. Aitken GR, et al. BMJ Open. 2014 Sep 29;4(9):e00548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50346-75DB-44C9-B7FD-6DDFDD3F5AF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ontent Placeholder 3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539640" y="1865160"/>
            <a:ext cx="8088480" cy="4084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863640" y="6037200"/>
            <a:ext cx="71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bert LA, et al. BH. Renoprotection: one or many therapies? Kidney Int. 2001 Apr;59(4):1211-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deterioration rat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R of end-stage disease is much lower for an elderly patient with CKD than for a younger patient with the same level of kidney func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pidemiologic studies suggest that age-related loss of renal function may be associated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ystemic hypertens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therosclerot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ne or more episodes of AK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c. Weinstein JR, et al. Adv Chronic Kidney Dis. 2010 Jul;17(4):302-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7F4AA-884C-4A0F-AA58-ED5E32E196B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00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t is important to recognise that the rate of decline in renal function is lower in the elderly and vast majority of patients with CKD do not progress to ES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or those elderly patients that do reach ESRD, recent reports indicate that dialysis may not provide a clear benefit over conservative care regarding survival and quality of life, especially in those patients with extensive co-morbidities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Smith C, et al. Nephron Clin Pract. 2003;95(2):c40-6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other study showed elderly with co-morbidities treated with dialysis had a median survival that was only 5 months longer from entry into CKD Stage 5 than patients who had undergone conservative kidney management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Chandna SM, et al. Nephrol Dial Transplant. 2011;26(5):1608-14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78A2F-A663-4B21-B9FF-4650DDA4D66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about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gnancy in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s it safe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wants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already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in elder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refer to nephrologis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start RR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rugs and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How to use the medication safely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68EA0-460B-4B7A-BF3E-D25C5B768BA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77300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lderly patients with advanced CKD often have multiple extra-renal co-morbidities. The prospects of rehabilitation in such patients tend to be limited and the prognosis is often very poo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nal replacement therapy often adds little in additional quantity of life and can pose huge additional burdens for patients and their caregiver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n individualised approach is necessar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639D9-C388-4601-A24A-7E7605EA2D3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PG CKD2 says…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0C33F-6093-4536-9E23-8941E0AF9E5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82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Medication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AA7BD-C25E-4D2A-9A97-5057D304F8A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Diagram 12" descr=""/>
          <p:cNvPicPr/>
          <p:nvPr/>
        </p:nvPicPr>
        <p:blipFill>
          <a:blip r:embed="rId1"/>
          <a:stretch/>
        </p:blipFill>
        <p:spPr>
          <a:xfrm>
            <a:off x="1371600" y="2341440"/>
            <a:ext cx="2554200" cy="2492640"/>
          </a:xfrm>
          <a:prstGeom prst="rect">
            <a:avLst/>
          </a:prstGeom>
          <a:ln w="0">
            <a:noFill/>
          </a:ln>
        </p:spPr>
      </p:pic>
      <p:pic>
        <p:nvPicPr>
          <p:cNvPr id="374" name="Diagram 13" descr=""/>
          <p:cNvPicPr/>
          <p:nvPr/>
        </p:nvPicPr>
        <p:blipFill>
          <a:blip r:embed="rId2"/>
          <a:stretch/>
        </p:blipFill>
        <p:spPr>
          <a:xfrm>
            <a:off x="3797280" y="1560600"/>
            <a:ext cx="4249800" cy="3902040"/>
          </a:xfrm>
          <a:prstGeom prst="rect">
            <a:avLst/>
          </a:prstGeom>
          <a:ln w="0">
            <a:noFill/>
          </a:ln>
        </p:spPr>
      </p:pic>
      <p:sp>
        <p:nvSpPr>
          <p:cNvPr id="375" name="Straight Connector 15"/>
          <p:cNvSpPr/>
          <p:nvPr/>
        </p:nvSpPr>
        <p:spPr>
          <a:xfrm flipV="1">
            <a:off x="3692520" y="1951200"/>
            <a:ext cx="1471680" cy="116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Straight Connector 17" descr=""/>
          <p:cNvPicPr/>
          <p:nvPr/>
        </p:nvPicPr>
        <p:blipFill>
          <a:blip r:embed="rId3"/>
          <a:stretch/>
        </p:blipFill>
        <p:spPr>
          <a:xfrm>
            <a:off x="3359160" y="4151160"/>
            <a:ext cx="1822320" cy="1659240"/>
          </a:xfrm>
          <a:prstGeom prst="rect">
            <a:avLst/>
          </a:prstGeom>
          <a:ln w="0">
            <a:noFill/>
          </a:ln>
        </p:spPr>
      </p:pic>
      <p:sp>
        <p:nvSpPr>
          <p:cNvPr id="377" name="Slide Number Placeholder 2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FF779-3F17-4FDB-B62F-B9C35527325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5140440" y="5445000"/>
            <a:ext cx="25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RUG-INDUCED KIDNEY INJ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edication use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773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CKD has high pill burde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ugs also are a common source of organ injury e.g. kidney inju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can be used in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are suitable to be used throughout all stages of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medications regularly, in terms of suitability and appropriate dose adjustment to current renal fun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non-prescription medications especially herbal preparations (discontinue aristolochic acid-containing preparation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DB1BC-54DC-4F06-B33B-1778985F32E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560" y="1917360"/>
            <a:ext cx="76568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4600" indent="-174600">
              <a:lnSpc>
                <a:spcPct val="8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lochic acid-containing preparations must be reviewed.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rcRect l="0" t="21753" r="0" b="21753"/>
          <a:stretch/>
        </p:blipFill>
        <p:spPr>
          <a:xfrm>
            <a:off x="611280" y="3432240"/>
            <a:ext cx="355608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214880" y="2865600"/>
            <a:ext cx="4219560" cy="3227400"/>
          </a:xfrm>
          <a:prstGeom prst="rect">
            <a:avLst/>
          </a:prstGeom>
          <a:ln w="0">
            <a:noFill/>
          </a:ln>
        </p:spPr>
      </p:pic>
      <p:sp>
        <p:nvSpPr>
          <p:cNvPr id="386" name="Title 1"/>
          <p:cNvSpPr/>
          <p:nvPr/>
        </p:nvSpPr>
        <p:spPr>
          <a:xfrm>
            <a:off x="82224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189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mmonly encountered nephrotoxic ag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7D45B-34FF-4A51-AF7D-AA6F66565F7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Content Placeholder 6" descr=""/>
          <p:cNvPicPr/>
          <p:nvPr/>
        </p:nvPicPr>
        <p:blipFill>
          <a:blip r:embed="rId1"/>
          <a:srcRect l="-2539" t="3872" r="-3760" b="0"/>
          <a:stretch/>
        </p:blipFill>
        <p:spPr>
          <a:xfrm>
            <a:off x="725400" y="1670040"/>
            <a:ext cx="7683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CEIs or ARB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1880" y="1767960"/>
            <a:ext cx="75438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Is and ARBs are the mainstay treatment in  delaying CK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complications seen are hyperkalaemia and AKI and, these are exacerbated by certain conditions e.g. hypovolemic stat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ACEi/ARB-induced adverse effect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 therapy with low doses and gradually titrate upwa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kidney function, SCr and serum potassi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if Scr rise &gt;30% from baseline or ….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using high dose concomitant diuretic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96505-C93D-43FF-951F-6981268A19A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of kidney injury by NSAID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I from “pre-renal” or AT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stitial nephrit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phrotic syndrome (minimal change diseas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kidney potassium excretion → hyperkalemi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sodium excretion → hypertension, oede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FB281-5868-480E-9012-66ABD8CD0E1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ing evidence of association between chronic NSAIDs, aspirin and paracetamol use and the development of C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oid NSA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e.g. mefenamic acid, diclofenac acid, ibuprofen, naproxen, indomethacin, ketoprofen, salicylic acid (high dose)], including cyclooxygenase-2 Inhibitors (e.g. meloxicam, celecoxib and etoricoxib)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rapies other than 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.g. paracetamol,  opioid analgesics, et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8E79D-A86E-4617-B939-C17CC124355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t mother with CKD = high risk pregnancy regardless of CKD stage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s begin at CKD stage 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dictors of risk or adverse maternal-foetal outcome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stage - increased with more advanced stag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hyperten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proteinuria (&gt;1 g/d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sence of system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7. Piccoli GB, et al. J Am Soc Nephrol. 2015;26(8):2011-22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odinated Contras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21880" y="177336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isk factors</a:t>
            </a:r>
            <a:r>
              <a:rPr b="1" lang="en-US" sz="2400" spc="-1" strike="noStrike" baseline="30000">
                <a:solidFill>
                  <a:srgbClr val="40404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xisting renal impairment (SCr ≥132 μmol/L or an eGFR &lt;60 ml/1.73 m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Volume depletion (e.g. nephrotic syndrome, decompensated liver cirrho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DM     ◌ CCF    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 &gt;75 years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emia (HCT &lt;39% in men, &lt;36% in women)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osmolality contrast agents, large or repeated dos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urrent use of NSAIDs or RAAS-antagonists,  metformin and high dose diuret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hogen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rect tubular tox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nal ischemia (osmotic diure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B390F-8D97-4719-B7F4-89A958F590D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mitigation strategies to avoid contrast-induced AKI</a:t>
            </a:r>
            <a:r>
              <a:rPr b="1" lang="en-MY" sz="4800" spc="-1" strike="noStrike" baseline="30000">
                <a:solidFill>
                  <a:srgbClr val="000000"/>
                </a:solidFill>
                <a:latin typeface="Calibri Light"/>
              </a:rPr>
              <a:t>9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void radio-contrast agents in high risk patients if possible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onsider an alternative imaging study e.g. ultrasound, non-contrasted computerised tomography scan or magnetic resonance imaging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adolinium-based MRI should be avoided in patients with advanced renal failure due to increased risk of nephrogenic systemic fibros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isotonic saline peri-proced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re is insufficient evidence to support the use of N-acetylcysteine and sodium bicarbonat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non-ionic contrast media with low osmolarity (e.g. ioversol and iopamidol) or iso-osmolarity (e.g. iodixanol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the lowest dose of contrast possible and avoid repeated studies within 48 hou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9C963-8BB4-4747-924C-97A9ABDC487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on Pump Inhibitors (PPI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880" y="1846080"/>
            <a:ext cx="754380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of proton pump inhibitors (PPI) has been shown to significantly increase the risk of developing CKD (RR/OR range of 1.10 to 1.50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3-15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d progression of CKD (HR between 1.26 to 1.32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4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this association was not evident with cumulative dose of H</a:t>
            </a:r>
            <a:r>
              <a:rPr b="0" lang="en-MY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long-term PPI use unless with clear indic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52A08-8822-4D2E-B3D6-14A7CBA6FDD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-2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rug dosing adjustmen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7552-9BA7-41EC-B1BD-E761BCA5A66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95280" y="1008000"/>
          <a:ext cx="8353440" cy="525168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524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 do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d (GFR 60 - 9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rat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 - 59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ver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&lt;3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for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- 100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djus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- 45: 50%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iclazide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 - 16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ntraindica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80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itagliptin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 - 50: 50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ldagliptin</a:t>
                      </a:r>
                      <a:r>
                        <a:rPr b="1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mg OD -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- 59: 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50: limited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(limited da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523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- 1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an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- 3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5 - 60: 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43164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m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 - 25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7326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moxicillin + Clavulanic Acid (Augment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5 mg q8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- 30: q12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: q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97668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amethoxazole + Trimethoprim (TMP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30: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5: 50% q12 - 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411" name="TextBox 2"/>
          <p:cNvSpPr/>
          <p:nvPr/>
        </p:nvSpPr>
        <p:spPr>
          <a:xfrm>
            <a:off x="865080" y="6381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- GFR estimated based on CKD-Epi eq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for drug dosing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1880" y="1927080"/>
            <a:ext cx="75438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ckcroft-Gault equation has been traditionally used for drug dosing based on creatinine clearance (CrCl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KD-EPI equation is also used for drug dosing based on eGFR especially for newer generation drug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stimate of renal function (i.e. CrCl vs eGFR) used for drug dosing adjustment should follow the United States Food and Drug Administrative(USFDA) or European Medicines Agency(EMA)-approved product labeling of that specific drug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2DEE1-A5C9-4BB8-BBB4-2A7B359D77B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85A2E-F31D-4C07-A8C7-2F0D66E127E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are the adverse outcomes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2240" y="1846440"/>
            <a:ext cx="37036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N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2240" y="2583000"/>
            <a:ext cx="37036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stational hyperten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clamps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eclamps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w onset or worsening of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orsening of renal fun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aesarean deliv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aternal dea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800" y="1846440"/>
            <a:ext cx="37018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OET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63800" y="2583000"/>
            <a:ext cx="37018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mature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tra-uterine growth retard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mall-for-gestational 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ow birth we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till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onatal morta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B9883-4987-485C-A10E-66001A5E8CA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rino-Cagliari Observational Study (TOCOS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"/>
              </a:rPr>
              <a:t>assessed whether the risk for adverse pregnancy outcomes is associated with CKD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ared 504 pregnancies in women with CKD with 836 low-risk pregnancies in women without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d hypertension, proteinuria (0.1 g/d), systemic disease and CKD stage (at referral) as baseline assess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E1C31-3838-468A-933B-67589C07B9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414E7-0565-478A-AAB1-3A8F8DFF893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395280" y="1617840"/>
            <a:ext cx="8424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13488-D6E2-4E45-8539-FBDFBD2FC04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82803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FB699-7B28-4ECD-9A1B-CDB7AE25245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763120" cy="45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468360" y="64134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risk” for adverse pregnancy-related outcomes linked to CK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atern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1880" y="1699920"/>
            <a:ext cx="7782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te of renal function deterioration and worsening of proteinuria during pregnancy correlates significantly with CKD stag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deteriorates more in CKD stage 3/4 compared with stage 2 (60% vs 14.3%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oubling of proteinuria as CKD stage progresses are 20.5%, 86.5% and 70% in stage 1, 3 and 4 - 5 respectively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 for adverse outcomes increased across stages (for stage 1 vs stages 4 - 5)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neral” combined outcome, 34.1% vs 9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vere” combined outcome, 21.4% vs 8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8. Alsuwaida A, et al. J Matern Fetal Neonatal Med. 2011;24(12):1432-6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91DA2-4CE6-4E56-9742-D715DD7BBAE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51:27Z</dcterms:modified>
  <cp:revision>227</cp:revision>
  <dc:subject/>
  <dc:title>SCREENING &amp; DIAGNOSIS</dc:title>
</cp:coreProperties>
</file>